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A360-9AFD-461A-93A9-E10552182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1CC5-07F9-4353-B365-F0B504526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6C82-8AE4-48B3-8227-2E8EBB76F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D449-39A9-47CF-A95F-B286E843C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09F9-E832-4000-873D-5B877A01C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A9E7-DBAC-47BC-B013-5204AB1E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28C1-60A5-476A-978F-FA623735A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3581-5C6F-4A8B-9677-DE34DC514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EEF4-53F4-408D-8FC6-163A86A50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B606-8566-4CC5-80CB-3071B8F2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0DF6-6DD2-45E7-8EF1-4856EE21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093C-45E8-4A09-A3E3-DFF7F234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AB4BF-3C0C-4167-9560-458E6D9881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file:///&#1087;&#1088;&#1080;&#1095;&#1080;&#1085;&#1099;%20&#1080;%20&#1074;&#1080;&#1076;&#1099;.ppt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"/>
          <p:cNvPicPr/>
          <p:nvPr/>
        </p:nvPicPr>
        <p:blipFill>
          <a:blip r:embed="rId1"/>
          <a:stretch/>
        </p:blipFill>
        <p:spPr>
          <a:xfrm>
            <a:off x="6858000" y="3429000"/>
            <a:ext cx="542880" cy="47628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1" descr="shablony-dlya-prezentaziy-11-3.jpg"/>
          <p:cNvPicPr/>
          <p:nvPr/>
        </p:nvPicPr>
        <p:blipFill>
          <a:blip r:embed="rId2"/>
          <a:stretch/>
        </p:blipFill>
        <p:spPr>
          <a:xfrm>
            <a:off x="0" y="0"/>
            <a:ext cx="922644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Box 2"/>
          <p:cNvSpPr/>
          <p:nvPr/>
        </p:nvSpPr>
        <p:spPr>
          <a:xfrm>
            <a:off x="1026360" y="1143000"/>
            <a:ext cx="703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Тест на знание теоретического материа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19" descr="s623309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211880" y="5565600"/>
            <a:ext cx="1724040" cy="12988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6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2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5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2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5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8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1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4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2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5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5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8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2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5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8"/>
          <p:cNvSpPr/>
          <p:nvPr/>
        </p:nvSpPr>
        <p:spPr>
          <a:xfrm>
            <a:off x="0" y="1324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1"/>
          <p:cNvSpPr/>
          <p:nvPr/>
        </p:nvSpPr>
        <p:spPr>
          <a:xfrm>
            <a:off x="0" y="1314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0" y="1324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2"/>
          <p:cNvSpPr/>
          <p:nvPr/>
        </p:nvSpPr>
        <p:spPr>
          <a:xfrm>
            <a:off x="0" y="1314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0" y="942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0" y="942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2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0" y="942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942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0" y="1362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0" y="1362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4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7"/>
          <p:cNvSpPr/>
          <p:nvPr/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0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11"/>
          <p:cNvSpPr/>
          <p:nvPr/>
        </p:nvSpPr>
        <p:spPr>
          <a:xfrm>
            <a:off x="3357720" y="2428920"/>
            <a:ext cx="205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1T00:03:01Z</dcterms:created>
  <dc:creator>Admin</dc:creator>
  <dc:description/>
  <dc:language>en-US</dc:language>
  <cp:lastModifiedBy>Admin</cp:lastModifiedBy>
  <dcterms:modified xsi:type="dcterms:W3CDTF">2004-01-01T00:11:00Z</dcterms:modified>
  <cp:revision>2</cp:revision>
  <dc:subject/>
  <dc:title>Слайд 1</dc:title>
</cp:coreProperties>
</file>